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09D-90F7-45A5-A3CF-1ED396E9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399-9BD7-443C-BC9D-BEC5949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7EA-4621-49B9-ABFF-90E22A1F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335-F64D-44FF-B8C9-AA8F0262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137-AB9E-4F85-A230-3ECD3E0C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E31-0255-4FF4-9D21-5B4DE688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783-4D46-4B9D-8E3C-DA867A89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B5C-2B7C-4D15-9CB6-2AD50C72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5ED-AC6F-4A2B-AC42-2F35FB12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7E6-3033-4F6E-B431-D979DCE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1C2-2EC2-4C7E-8F5F-34723EDC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DAB-96C2-42C6-B036-88B80B9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6975-7190-40C9-95BE-873A7F556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ИКТО\0PRZB9CAJIQ3A9CAVX6RAICA4887SYCATXUWHKCATPF2LECA3GTNGNCA8R510QCABHBOJGCA38IXNTCA5UIVCLCA26W601CATOI1GFCA8Q3WAZCA8BRSTACAMT1UCXCABLRWQVCA08IYOXCAW31380CAASFMG7.jpg"/>
          <p:cNvPicPr/>
          <p:nvPr/>
        </p:nvPicPr>
        <p:blipFill>
          <a:blip r:embed="rId1"/>
          <a:stretch/>
        </p:blipFill>
        <p:spPr>
          <a:xfrm>
            <a:off x="1189080" y="420840"/>
            <a:ext cx="4121280" cy="553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:\Documents and Settings\Admin\Рабочий стол\INTEL\арр\normal_DSC_0302.jpg"/>
          <p:cNvPicPr/>
          <p:nvPr/>
        </p:nvPicPr>
        <p:blipFill>
          <a:blip r:embed="rId2"/>
          <a:stretch/>
        </p:blipFill>
        <p:spPr>
          <a:xfrm>
            <a:off x="5778360" y="920880"/>
            <a:ext cx="232884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Admin\Рабочий стол\INTEL\арр\i2.jpeg"/>
          <p:cNvPicPr/>
          <p:nvPr/>
        </p:nvPicPr>
        <p:blipFill>
          <a:blip r:embed="rId3"/>
          <a:stretch/>
        </p:blipFill>
        <p:spPr>
          <a:xfrm>
            <a:off x="5291280" y="4157640"/>
            <a:ext cx="2779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ИКТО\радуга.jpg"/>
          <p:cNvPicPr/>
          <p:nvPr/>
        </p:nvPicPr>
        <p:blipFill>
          <a:blip r:embed="rId1"/>
          <a:stretch/>
        </p:blipFill>
        <p:spPr>
          <a:xfrm>
            <a:off x="4449600" y="92160"/>
            <a:ext cx="4932360" cy="321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Admin\Рабочий стол\ИКТО\ИКТО12\568345.jpg"/>
          <p:cNvPicPr/>
          <p:nvPr/>
        </p:nvPicPr>
        <p:blipFill>
          <a:blip r:embed="rId2"/>
          <a:stretch/>
        </p:blipFill>
        <p:spPr>
          <a:xfrm>
            <a:off x="1066680" y="2494080"/>
            <a:ext cx="5085000" cy="41878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749160" y="219240"/>
            <a:ext cx="43722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Рабочий стол\ИКТО\4SX7IBCAA6CUS7CA8P3G44CA79IMANCAW99ZEHCAJBEFOVCAVSZYN4CAVW2W7LCA1VSZ2GCA92XPJKCA8NF0BTCAWZOKHCCA0MS59ZCAWJ5KV4CAKGM9X3CA0E3N0DCAXMD88PCAIKL2JWCAIZ749ICAZB8XMP.jpg"/>
          <p:cNvPicPr/>
          <p:nvPr/>
        </p:nvPicPr>
        <p:blipFill>
          <a:blip r:embed="rId1"/>
          <a:stretch/>
        </p:blipFill>
        <p:spPr>
          <a:xfrm>
            <a:off x="1357200" y="357120"/>
            <a:ext cx="3286080" cy="24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3" descr="C:\Documents and Settings\Admin\Рабочий стол\ИКТО\967aa924da31990b5edbd9ebb2d59948.jpg"/>
          <p:cNvPicPr/>
          <p:nvPr/>
        </p:nvPicPr>
        <p:blipFill>
          <a:blip r:embed="rId2"/>
          <a:stretch/>
        </p:blipFill>
        <p:spPr>
          <a:xfrm>
            <a:off x="4048200" y="3067200"/>
            <a:ext cx="4248000" cy="63259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4363920" y="219240"/>
            <a:ext cx="460404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55:30Z</dcterms:created>
  <dc:creator>Игорь</dc:creator>
  <dc:description/>
  <dc:language>en-US</dc:language>
  <cp:lastModifiedBy>TIGROID</cp:lastModifiedBy>
  <dcterms:modified xsi:type="dcterms:W3CDTF">2010-06-03T12:46:24Z</dcterms:modified>
  <cp:revision>5</cp:revision>
  <dc:subject/>
  <dc:title>Слайд 1</dc:title>
</cp:coreProperties>
</file>